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034F-0115-45C8-A19C-E1D1100FF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6CBD-D84B-4CE7-8009-F8A45713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DBC6-120B-433D-820A-EF0CCB171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4432-E9BC-4F85-98C7-843D62342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4896-6EF0-4932-B832-62F1F20A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2618-2ADB-4D0F-87B4-D9AA80FA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CD68-DA2F-4D97-B9B1-5BD74902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A46E-4BFB-4A59-9EAB-08AA0129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156A-F7F1-4E0A-BC3E-229FFF4F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7EB5-A147-4DA6-9FE1-D64A0D3A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842C-584E-4CFC-904E-9C605D34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0C95-8B13-46BD-B17F-889B5B24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B476-4DF1-44CA-86BB-B33F8D9C8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048120"/>
            <a:ext cx="1676160" cy="228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57200"/>
            <a:ext cx="685800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15080" y="228600"/>
            <a:ext cx="1942920" cy="2286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Home     Profile     Accou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57240" y="31528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440" y="57240"/>
            <a:ext cx="1190880" cy="399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1752480" cy="1295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1828800" y="609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609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Tran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533520"/>
            <a:ext cx="4191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669960"/>
            <a:ext cx="4419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(write current status here – only make one line due to formatting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1219320"/>
            <a:ext cx="4876920" cy="706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RECENT ACTIVITY 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(Interact with at </a:t>
            </a:r>
            <a:r>
              <a:rPr b="0" i="1" lang="en-US" sz="800" spc="-1" strike="noStrike">
                <a:solidFill>
                  <a:srgbClr val="808080"/>
                </a:solidFill>
                <a:latin typeface="Arial"/>
              </a:rPr>
              <a:t>least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6 others; 2 threaded conversations, minimum 8 line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Tranio: I really hope my master wins Bian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Biondello:  I agree.  She’s ho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320" y="2209680"/>
            <a:ext cx="1600200" cy="231840"/>
          </a:xfrm>
          <a:prstGeom prst="rect">
            <a:avLst/>
          </a:prstGeom>
          <a:noFill/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320" y="3276720"/>
            <a:ext cx="1676160" cy="1064880"/>
          </a:xfrm>
          <a:prstGeom prst="rect">
            <a:avLst/>
          </a:prstGeom>
          <a:noFill/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Relationship Statu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Age (Logical Guess)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Relative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3124080"/>
            <a:ext cx="76320" cy="76320"/>
          </a:xfrm>
          <a:prstGeom prst="rtTriangl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2209680"/>
            <a:ext cx="76320" cy="76320"/>
          </a:xfrm>
          <a:prstGeom prst="rtTriangl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5715000"/>
            <a:ext cx="1676160" cy="648000"/>
          </a:xfrm>
          <a:prstGeom prst="rect">
            <a:avLst/>
          </a:prstGeom>
          <a:noFill/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5302080"/>
            <a:ext cx="1676160" cy="412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iends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eed at least 10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 4 non-play characters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list, no pictures need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5378400"/>
            <a:ext cx="76320" cy="76320"/>
          </a:xfrm>
          <a:prstGeom prst="rtTriangl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7664400"/>
            <a:ext cx="1676520" cy="648000"/>
          </a:xfrm>
          <a:prstGeom prst="rect">
            <a:avLst/>
          </a:prstGeom>
          <a:noFill/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7283520"/>
            <a:ext cx="1676520" cy="380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what would he/she support?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76520" y="7359480"/>
            <a:ext cx="75960" cy="76320"/>
          </a:xfrm>
          <a:prstGeom prst="rtTriangl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4876920"/>
            <a:ext cx="1905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6320" y="3048120"/>
            <a:ext cx="1676160" cy="228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57200"/>
            <a:ext cx="685800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15080" y="228600"/>
            <a:ext cx="1942920" cy="2286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Home     Profile     Accou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57240" y="31528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8440" y="57240"/>
            <a:ext cx="1190880" cy="399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1752480" cy="1295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1828800" y="609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609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Bian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533520"/>
            <a:ext cx="4191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669960"/>
            <a:ext cx="4419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(write current status here – only make one line due to formatting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1219320"/>
            <a:ext cx="4876920" cy="687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RECENT ACTIVITY 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(Interact with at </a:t>
            </a:r>
            <a:r>
              <a:rPr b="0" i="1" lang="en-US" sz="800" spc="-1" strike="noStrike">
                <a:solidFill>
                  <a:srgbClr val="808080"/>
                </a:solidFill>
                <a:latin typeface="Arial"/>
              </a:rPr>
              <a:t>least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6 others; 2 threaded conversations, minimum 8 line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20" y="2209680"/>
            <a:ext cx="1600200" cy="231840"/>
          </a:xfrm>
          <a:prstGeom prst="rect">
            <a:avLst/>
          </a:prstGeom>
          <a:noFill/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320" y="3276720"/>
            <a:ext cx="1676160" cy="1064880"/>
          </a:xfrm>
          <a:prstGeom prst="rect">
            <a:avLst/>
          </a:prstGeom>
          <a:noFill/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Relationship Statu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Age (Logical Guess)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Relative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3124080"/>
            <a:ext cx="76320" cy="76320"/>
          </a:xfrm>
          <a:prstGeom prst="rtTriangl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209680"/>
            <a:ext cx="76320" cy="76320"/>
          </a:xfrm>
          <a:prstGeom prst="rtTriangl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320" y="5715000"/>
            <a:ext cx="1676160" cy="648000"/>
          </a:xfrm>
          <a:prstGeom prst="rect">
            <a:avLst/>
          </a:prstGeom>
          <a:noFill/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320" y="5302080"/>
            <a:ext cx="1676160" cy="412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iends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eed at least 10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 4 non-play characters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list, no pictures need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0200" y="5378400"/>
            <a:ext cx="76320" cy="76320"/>
          </a:xfrm>
          <a:prstGeom prst="rtTriangl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7664400"/>
            <a:ext cx="1676520" cy="648000"/>
          </a:xfrm>
          <a:prstGeom prst="rect">
            <a:avLst/>
          </a:prstGeom>
          <a:noFill/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7283520"/>
            <a:ext cx="1676520" cy="380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what would he/she support?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7359480"/>
            <a:ext cx="75960" cy="76320"/>
          </a:xfrm>
          <a:prstGeom prst="rtTriangl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4876920"/>
            <a:ext cx="1905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6320" y="3048120"/>
            <a:ext cx="1676160" cy="228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57200"/>
            <a:ext cx="685800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15080" y="228600"/>
            <a:ext cx="1942920" cy="2286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Home     Profile     Accou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57240" y="31528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8440" y="57240"/>
            <a:ext cx="1190880" cy="399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1752480" cy="1295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1828800" y="609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609480"/>
            <a:ext cx="762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Kather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533520"/>
            <a:ext cx="4191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62320" y="669960"/>
            <a:ext cx="4419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(write current status here – only make one line due to formatting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320" y="2209680"/>
            <a:ext cx="1600200" cy="231840"/>
          </a:xfrm>
          <a:prstGeom prst="rect">
            <a:avLst/>
          </a:prstGeom>
          <a:noFill/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320" y="3276720"/>
            <a:ext cx="1676160" cy="1064880"/>
          </a:xfrm>
          <a:prstGeom prst="rect">
            <a:avLst/>
          </a:prstGeom>
          <a:noFill/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Relationship Statu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Age (Logical Guess)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Relative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3124080"/>
            <a:ext cx="76320" cy="76320"/>
          </a:xfrm>
          <a:prstGeom prst="rtTriangl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2209680"/>
            <a:ext cx="76320" cy="76320"/>
          </a:xfrm>
          <a:prstGeom prst="rtTriangl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5715000"/>
            <a:ext cx="1676160" cy="648000"/>
          </a:xfrm>
          <a:prstGeom prst="rect">
            <a:avLst/>
          </a:prstGeom>
          <a:noFill/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320" y="5302080"/>
            <a:ext cx="1676160" cy="412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iends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eed at least 10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 4 non-play characters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list, no pictures need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5378400"/>
            <a:ext cx="76320" cy="76320"/>
          </a:xfrm>
          <a:prstGeom prst="rtTriangl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7664400"/>
            <a:ext cx="1676520" cy="648000"/>
          </a:xfrm>
          <a:prstGeom prst="rect">
            <a:avLst/>
          </a:prstGeom>
          <a:noFill/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7283520"/>
            <a:ext cx="1676520" cy="380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what would he/she support?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7359480"/>
            <a:ext cx="75960" cy="76320"/>
          </a:xfrm>
          <a:prstGeom prst="rtTriangl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876920"/>
            <a:ext cx="1905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1219320"/>
            <a:ext cx="4876920" cy="687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RECENT ACTIVITY 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(Interact with at </a:t>
            </a:r>
            <a:r>
              <a:rPr b="0" i="1" lang="en-US" sz="800" spc="-1" strike="noStrike">
                <a:solidFill>
                  <a:srgbClr val="808080"/>
                </a:solidFill>
                <a:latin typeface="Arial"/>
              </a:rPr>
              <a:t>least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6 others; 2 threaded conversations, minimum 8 line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6320" y="3048120"/>
            <a:ext cx="1676160" cy="228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57200"/>
            <a:ext cx="685800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15080" y="228600"/>
            <a:ext cx="1942920" cy="2286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Home     Profile     Accou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57240" y="31528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8440" y="57240"/>
            <a:ext cx="1190880" cy="399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1752480" cy="1295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1828800" y="609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609480"/>
            <a:ext cx="762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Petruchi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14600" y="533520"/>
            <a:ext cx="4191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669960"/>
            <a:ext cx="4419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(write current status here – only make one line due to formatting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2209680"/>
            <a:ext cx="1600200" cy="231840"/>
          </a:xfrm>
          <a:prstGeom prst="rect">
            <a:avLst/>
          </a:prstGeom>
          <a:noFill/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320" y="3276720"/>
            <a:ext cx="1676160" cy="1064880"/>
          </a:xfrm>
          <a:prstGeom prst="rect">
            <a:avLst/>
          </a:prstGeom>
          <a:noFill/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Relationship Statu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Age (Logical Guess)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Relative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00200" y="3124080"/>
            <a:ext cx="76320" cy="76320"/>
          </a:xfrm>
          <a:prstGeom prst="rtTriangl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2209680"/>
            <a:ext cx="76320" cy="76320"/>
          </a:xfrm>
          <a:prstGeom prst="rtTriangl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320" y="5715000"/>
            <a:ext cx="1676160" cy="648000"/>
          </a:xfrm>
          <a:prstGeom prst="rect">
            <a:avLst/>
          </a:prstGeom>
          <a:noFill/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5302080"/>
            <a:ext cx="1676160" cy="412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iends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eed at least 10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 4 non-play characters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list, no pictures need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5378400"/>
            <a:ext cx="76320" cy="76320"/>
          </a:xfrm>
          <a:prstGeom prst="rtTriangl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7664400"/>
            <a:ext cx="1676520" cy="648000"/>
          </a:xfrm>
          <a:prstGeom prst="rect">
            <a:avLst/>
          </a:prstGeom>
          <a:noFill/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7283520"/>
            <a:ext cx="1676520" cy="380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what would he/she support?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7359480"/>
            <a:ext cx="75960" cy="76320"/>
          </a:xfrm>
          <a:prstGeom prst="rtTriangl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4876920"/>
            <a:ext cx="1905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1219320"/>
            <a:ext cx="4876920" cy="687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RECENT ACTIVITY 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(Interact with at </a:t>
            </a:r>
            <a:r>
              <a:rPr b="0" i="1" lang="en-US" sz="800" spc="-1" strike="noStrike">
                <a:solidFill>
                  <a:srgbClr val="808080"/>
                </a:solidFill>
                <a:latin typeface="Arial"/>
              </a:rPr>
              <a:t>least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6 others; 2 threaded conversations, minimum 8 line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6320" y="3048120"/>
            <a:ext cx="1676160" cy="228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57200"/>
            <a:ext cx="685800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15080" y="228600"/>
            <a:ext cx="1942920" cy="2286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Home     Profile     Accou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-57240" y="31528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8440" y="57240"/>
            <a:ext cx="1190880" cy="3999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1752480" cy="1295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1828800" y="609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52480" y="609480"/>
            <a:ext cx="762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Futura Bk"/>
              </a:rPr>
              <a:t>Baptis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533520"/>
            <a:ext cx="4191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669960"/>
            <a:ext cx="4419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(write current status here – only make one line due to formatting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320" y="2209680"/>
            <a:ext cx="1600200" cy="231840"/>
          </a:xfrm>
          <a:prstGeom prst="rect">
            <a:avLst/>
          </a:prstGeom>
          <a:noFill/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320" y="3276720"/>
            <a:ext cx="1676160" cy="1064880"/>
          </a:xfrm>
          <a:prstGeom prst="rect">
            <a:avLst/>
          </a:prstGeom>
          <a:noFill/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Relationship Statu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Age (Logical Guess)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Relative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00200" y="3124080"/>
            <a:ext cx="76320" cy="76320"/>
          </a:xfrm>
          <a:prstGeom prst="rtTriangl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2209680"/>
            <a:ext cx="76320" cy="76320"/>
          </a:xfrm>
          <a:prstGeom prst="rtTriangl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6320" y="5715000"/>
            <a:ext cx="1676160" cy="648000"/>
          </a:xfrm>
          <a:prstGeom prst="rect">
            <a:avLst/>
          </a:prstGeom>
          <a:noFill/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320" y="5302080"/>
            <a:ext cx="1676160" cy="412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iends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eed at least 10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 4 non-play characters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list, no pictures need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5378400"/>
            <a:ext cx="76320" cy="76320"/>
          </a:xfrm>
          <a:prstGeom prst="rtTriangl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7664400"/>
            <a:ext cx="1676520" cy="648000"/>
          </a:xfrm>
          <a:prstGeom prst="rect">
            <a:avLst/>
          </a:prstGeom>
          <a:noFill/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7283520"/>
            <a:ext cx="1676520" cy="380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what would he/she support?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76520" y="7359480"/>
            <a:ext cx="75960" cy="76320"/>
          </a:xfrm>
          <a:prstGeom prst="rtTriangl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876920"/>
            <a:ext cx="1905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219320"/>
            <a:ext cx="4876920" cy="687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RECENT ACTIVITY 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(Interact with at </a:t>
            </a:r>
            <a:r>
              <a:rPr b="0" i="1" lang="en-US" sz="800" spc="-1" strike="noStrike">
                <a:solidFill>
                  <a:srgbClr val="808080"/>
                </a:solidFill>
                <a:latin typeface="Arial"/>
              </a:rPr>
              <a:t>least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6 others; 2 threaded conversations, minimum 8 line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320" y="3048120"/>
            <a:ext cx="1676160" cy="228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457200"/>
            <a:ext cx="685800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915080" y="228600"/>
            <a:ext cx="1942920" cy="2286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Home     Profile     Accou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57240" y="31528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8440" y="57240"/>
            <a:ext cx="1190880" cy="3999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1752480" cy="1295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1828800" y="609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52480" y="609480"/>
            <a:ext cx="762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Futura Bk"/>
              </a:rPr>
              <a:t>Lucenti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14600" y="533520"/>
            <a:ext cx="4191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669960"/>
            <a:ext cx="4419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(write current status here – only make one line due to formatting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320" y="2209680"/>
            <a:ext cx="1600200" cy="231840"/>
          </a:xfrm>
          <a:prstGeom prst="rect">
            <a:avLst/>
          </a:prstGeom>
          <a:noFill/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6320" y="3276720"/>
            <a:ext cx="1676160" cy="1064880"/>
          </a:xfrm>
          <a:prstGeom prst="rect">
            <a:avLst/>
          </a:prstGeom>
          <a:noFill/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Relationship Statu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Age (Logical Guess)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Relative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00200" y="3124080"/>
            <a:ext cx="76320" cy="76320"/>
          </a:xfrm>
          <a:prstGeom prst="rtTriangl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00200" y="2209680"/>
            <a:ext cx="76320" cy="76320"/>
          </a:xfrm>
          <a:prstGeom prst="rtTriangl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320" y="5715000"/>
            <a:ext cx="1676160" cy="648000"/>
          </a:xfrm>
          <a:prstGeom prst="rect">
            <a:avLst/>
          </a:prstGeom>
          <a:noFill/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320" y="5302080"/>
            <a:ext cx="1676160" cy="412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iends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eed at least 10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 4 non-play characters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list, no pictures need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00200" y="5378400"/>
            <a:ext cx="76320" cy="76320"/>
          </a:xfrm>
          <a:prstGeom prst="rtTriangl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7664400"/>
            <a:ext cx="1676520" cy="648000"/>
          </a:xfrm>
          <a:prstGeom prst="rect">
            <a:avLst/>
          </a:prstGeom>
          <a:noFill/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2280" y="7283520"/>
            <a:ext cx="1676520" cy="380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what would he/she support?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76520" y="7359480"/>
            <a:ext cx="75960" cy="76320"/>
          </a:xfrm>
          <a:prstGeom prst="rtTriangl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4876920"/>
            <a:ext cx="1905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1219320"/>
            <a:ext cx="4876920" cy="687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RECENT ACTIVITY 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(Interact with at </a:t>
            </a:r>
            <a:r>
              <a:rPr b="0" i="1" lang="en-US" sz="800" spc="-1" strike="noStrike">
                <a:solidFill>
                  <a:srgbClr val="808080"/>
                </a:solidFill>
                <a:latin typeface="Arial"/>
              </a:rPr>
              <a:t>least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6 others; 2 threaded conversations, minimum 8 line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5:04:17Z</dcterms:created>
  <dc:creator>swellman</dc:creator>
  <dc:description/>
  <dc:language>en-US</dc:language>
  <cp:lastModifiedBy>swellman</cp:lastModifiedBy>
  <dcterms:modified xsi:type="dcterms:W3CDTF">2010-05-11T20:28:21Z</dcterms:modified>
  <cp:revision>33</cp:revision>
  <dc:subject/>
  <dc:title>Slide 1</dc:title>
</cp:coreProperties>
</file>